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25373"/>
        <c:axId val="8992439"/>
      </c:barChart>
      <c:catAx>
        <c:axId val="57125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2439"/>
        <c:crosses val="autoZero"/>
        <c:auto val="1"/>
        <c:lblAlgn val="ctr"/>
        <c:lblOffset val="100"/>
        <c:noMultiLvlLbl val="0"/>
      </c:catAx>
      <c:valAx>
        <c:axId val="89924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25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9EB-92A7-427D-A2C7-DF27F72A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8496-969F-4D07-AE9E-F29572E0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8A6-E891-47BF-9C39-19437663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09B2-F276-4615-AEA8-1F447CFA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CCF6-A823-43F5-8807-73E298E3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8A5-0BCE-46AE-BEE6-1F053623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1FA-D20F-4AD7-BBDE-CA0215A4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5EF-98CF-41FF-AFBD-1B4B41D6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A2A-5C73-405B-AEA1-C639C9CA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130C-CB46-4FCC-9600-F1B01017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793-8B20-4F26-A465-9A9A0B21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7384-8A50-44E6-AD87-C9E0238A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82FF5-074D-4744-AC6D-AF484C6A5C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